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267-A63D-45FD-A545-77008877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653-D061-46F5-B845-91722E4E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C0F-46C3-46C5-B828-C433585C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7DC-016E-42F7-8379-8F408D96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E723-A7BC-47FD-944E-B203E564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619E-6C32-4154-9A9B-6E1AE87C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A38-147E-44C4-94A4-E4E4337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720-B005-4F92-AED6-1E2D9B9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884-DEF1-4FA9-8F55-7C1D00B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784-FE93-46EF-ABB1-45F0B43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C59-63C6-479E-BFDA-B469604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319-DE33-41E1-B4E7-45C1CC78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D796-3075-482D-903F-0BC460CF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AC2B-F5FC-494E-8995-D6BB70A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C070-9332-4DED-95C0-637FDEF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D6BA-6275-44C4-BCA0-C8C6EA65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8192-B5BC-4197-9498-EB7942DA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7A6-C612-4683-BD61-C3CF7D6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EC3-5F8E-4F37-827B-D22B2F54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C2C-F5F4-4F16-879B-AE89E92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9C6-B1F5-4AD9-928D-B844DE2C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D73-1998-420E-B446-5E3C003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C0F-511B-4E59-9D1C-DCDEE7AA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49C-FE86-4E18-9DF5-F3D1F68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252-E391-43B3-8C1A-B352A371D9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51EC-2081-4027-8774-F42377055B4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六讲  呼吸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呼吸系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二、肺通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三、肺换气和组织换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四、气体在血液中的运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五、呼吸运动的调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肺换气和组织换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气体交换的原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气体的扩散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气体分子从分压高处向分压低处发生净转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受下列因素影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                                     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Times New Roman"/>
              </a:rPr>
              <a:t>1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Times New Roman"/>
              </a:rPr>
              <a:t>、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气体的分压差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气体的分子量和溶解度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W,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扩散面积和距离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,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温度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呼吸气体和人体不同部位气体的分压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呼吸气、肺泡气、血液气体和组织气体的分压不同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见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三、肺换气和组织换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肺换气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依靠分压差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肺泡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液；血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肺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组织换气：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动脉血流经组织毛细血管时，血液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顺分压差 由血液扩散入细胞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则相反，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动脉血变成静脉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气体在血液中的运输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在血液中存在的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物理溶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溶解的量少，与分压、溶解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成正比， 与温度成反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化学结合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气体在血液中的运输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氧的运输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理溶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化学结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8.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％，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结合形式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b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高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b+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快、可逆、不需酶的催化、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气体在血液中的运输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812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的运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理溶解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化学结合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％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碳酸氢盐形式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88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％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氨基甲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形式占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％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碳酸酐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在组织</a:t>
            </a:r>
            <a:r>
              <a:rPr b="1" lang="zh-CN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b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HHbNHCOOOH 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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在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五、呼吸运动的调节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呼吸中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内产生和调节呼吸运动的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群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、脊髓：</a:t>
            </a:r>
            <a:r>
              <a:rPr b="1" lang="zh-CN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初级中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联系脑和呼吸肌的中继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产生呼吸节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延髓和脊髓间横断，呼吸停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五、呼吸运动的调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388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ahoma"/>
              </a:rPr>
              <a:t>、低位脑干（脑桥、延髓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脑桥上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抑制吸气的中枢（呼吸调整中枢），破坏可出现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长吸式呼吸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脑桥中下部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长吸中枢，破坏可出现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喘息样呼吸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Tahoma"/>
              </a:rPr>
              <a:t>延髓有呼吸节律基本中枢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背侧呼吸组（延髓的背内侧，吸气神经元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腹侧呼吸组（延髓的腹外侧，呼气、吸气神经元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180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呼吸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机体和外界环境之间的气体交换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呼吸过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外呼吸（肺呼吸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通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空气－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换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泡－肺毛细血管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气体在血液中的运输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摄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输到组织细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细胞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送到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内呼吸（组织呼吸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液－组织细胞、细胞内氧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44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肺通气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肺与外界环境之间的气体交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肺容积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</a:rPr>
              <a:t>潮气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静呼吸时，每次吸入或呼出的气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</a:rPr>
              <a:t>补吸气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静吸气末，…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</a:rPr>
              <a:t>补呼气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静呼气末，……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肺容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肺容积中两项或两项以上的联合气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</a:rPr>
              <a:t>肺活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吸气后，从肺内所能呼出的最大气量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潮气量＋补吸气量＋补呼气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肺通气原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呼吸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起呼吸运动的肌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吸气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使胸廓扩大产生吸气动作（膈肌、肋间外肌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呼气肌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胸廓缩小产生呼气动作（肋间内肌、腹壁肌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辅助呼吸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力呼吸时参与呼吸运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斜角肌、胸锁乳突肌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吸气运动  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膈肌收缩—胸腔、肺容积增大——吸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腹式呼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膈肌舒缩引起的呼吸运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以腹壁起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肋间外肌收缩——胸腔前后径和左右径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大—吸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胸式呼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肋间肌舒缩使胸骨和肋骨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动引起的。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吸气运动是主动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呼气运动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静呼气是被动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程，由吸气肌舒张完成。用力呼气时，呼气肌参与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总之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气肌收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胸廓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扩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容积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内压下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气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空气顺压力差入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吸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气肌舒张、呼气肌收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-----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呼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肺内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肺泡内压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呼吸过程中不断变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吸气－肺容积增大－肺内压暂时下降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气压－空气入肺泡－肺内压增大－至吸气末，肺内压等于大气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呼气－－－－－－－－－－－－－－－－－－－－－－－－－－－－－－－－至呼气末，肺内压等于大气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肺通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肺内压与大气压的差是推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气体进出肺的直接动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工呼吸利用这一原理（口对口，挤压胸廓）， 但先要保持呼吸道通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8T01:10:44Z</dcterms:modified>
  <cp:revision>117</cp:revision>
  <dc:subject>呼吸系统</dc:subject>
  <dc:title>第六讲</dc:title>
</cp:coreProperties>
</file>