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1AC-1C62-47EE-B677-D3B89CE7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52D-0A82-4AED-AA19-D8FB91BD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D2D-38A5-4F73-B801-15572D26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279-65B7-4961-8997-8A352880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AD57-7015-43CD-A46E-CD7ADE44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6CB8-E8A9-4CA3-996B-EC8DA5FD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7AA5-1707-4CBF-9EB9-E0E1F5D8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7F0B-41B5-4234-B53D-3E427200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2D94-C49C-4A6A-B7F0-BE8D405C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2D54-B6A7-4298-B086-63DF0536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2D79-3B5C-4770-A39B-31C6C693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8AB-F5E0-468D-9209-50399D26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A523-513E-4AA6-A0E6-A33ED1A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4247-EE80-42D2-9D56-B0D72825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A045-F68E-4549-A133-25F9939E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DF15-3D84-47DA-8201-24C5BCE3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F55D-16C2-483C-85AB-F412D1DD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736-BEF2-498D-AA93-9F3CE5C0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126-1AFE-41E9-B94A-7C12EDBA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95E-9322-4113-9E46-3AC2D378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2DC-A831-49D5-8EC4-D2093E14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62A-736D-4D88-AFDE-7569275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88A-02CC-4B0F-A2CF-D543203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5B9-BDC6-46F9-ABC4-23619BE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1551-6AA2-4225-986A-51E0B237063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7E98-5928-4168-B939-09118877A98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人体解剖生理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Human Anatomy and Ph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楷体_GB2312"/>
              </a:rPr>
              <a:t>郑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暨南大学医学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黑体"/>
              </a:rPr>
              <a:t>复习大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考试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采用开卷形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题型及其分值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共四种题型，满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一、单选题（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题，每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，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判断题（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题，每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，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三、名词解释题（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题，每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，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问答题（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题，每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，共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考试内容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讲：绪论、人体基本结构概述、运动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讲：神经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讲：血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四讲：循环系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五讲：循环系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六讲：呼吸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七讲：消化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八讲：能量代谢与体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九讲：泌尿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十讲：内分泌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第一讲  绪论、人体基本结构概述、运动系统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绪论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一、人体解剖生理学研究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二、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生命活动的基本特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二、生命活动的基本特征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一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新陈代谢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生物体总是在不断地重新建造自身的特殊结构，同时又在不断地破坏自身已衰老的结构。生物体与环境之间不断进行物质交换和能量交换，以实现自我更新的过程称为新陈代谢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从物质的合成与分解来看，新陈代谢包括合成代谢和分解代谢；从物质与能量的关系上看，新陈代谢包含着相伴进行的两个方面：物质代谢和能量代谢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（二）生殖和生长发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二、生命活动的基本特征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（三）人体生理功能的调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神经调节：特点：迅速、精确而短暂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反射：在中枢神经系统参与下，机体对内外环境刺激的规律性应答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反射弧：包括感受器、传入神经、神经中枢、传出神经和效应器。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体液调节：特点：缓慢、广泛而持久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内分泌细胞分泌激素，通过血液循环作用于靶器官和靶细胞，调节人体的生理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身调节：特点：精确的局部调节。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某些细胞或组织器官凭借本身内在特性，而不依赖神经调节和体液调节，对内环境变化产生特定适应性反应的过程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（四）机体维持稳态的反馈调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稳态：内环境的稳态并不是静止不变的固定状态，而是各种理化因素在变化中达到动态平衡的一种相对恒定状态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负反馈：在闭环控制系统中，受控部分发出的反馈信息抑制控制部分的活动，使其活动减弱，这种反馈称为负反馈。（体温调节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正反馈：在闭环控制系统中，受控部分发出的反馈信号加强控制部分的活动，使其活动增强，这种反馈称为正反馈。（排尿反射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二、生命活动的基本特征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第一讲  绪论、人体基本结构概述、运动系统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人体基本结构概述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一、细胞的结构与功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二、基本组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二、基本组织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0340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上皮组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基本组织  结缔组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   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肌肉组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神经组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平滑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宋体"/>
              </a:rPr>
              <a:t>肌肉组织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心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骨骼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郑辉</dc:creator>
  <dc:description/>
  <dc:language>en-US</dc:language>
  <cp:lastModifiedBy>Administrator</cp:lastModifiedBy>
  <dcterms:modified xsi:type="dcterms:W3CDTF">2011-06-17T11:33:58Z</dcterms:modified>
  <cp:revision>375</cp:revision>
  <dc:subject>绪论、人体基本结构概述、运动系统</dc:subject>
  <dc:title>第一讲</dc:title>
</cp:coreProperties>
</file>