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857-0BA1-45C0-95DA-72C3D0FD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ACC-B107-45E5-AB58-971BB10F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259-A28F-4CEC-8591-6F63B78C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E2C-BD04-4093-B7D8-488677E4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1873-98F5-4376-860C-5BE6AE19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7F1B-5847-4B90-A645-EDF6EF4F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B2A9-EB48-4CE0-B02C-82DE132D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EFD7-A6A2-44F4-ACEA-5750572A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A179-5F61-46F1-9CC8-89E1147D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77E8-E26E-46C6-B9E5-A459D95C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844B-2534-4938-B927-BDD3E985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E70-010C-4081-ABDC-F726A4AA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DA21-C7AE-4D3C-B2F5-577F8200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54DB-B9E8-4334-806C-4D369CC4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2AEB-876A-495B-A09B-31FC6DA5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E581-3F84-470F-A4BB-2C100A59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100F-E681-44A7-9260-23E9753A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3A0-47C1-4BAF-B8B9-3EE3868A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C9B-725B-40AF-A793-4E662A70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504-90DC-46AA-921B-40624C91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7F3-6DF9-41B7-A7ED-08860120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895-7A34-4D9A-8F40-EA54618E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3F8-BD31-43D4-B962-C57241B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45F-D6B7-4FC6-9CD5-0CB17C1B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D873-B48A-4229-A171-B0D2D4F2424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CB95-DD27-4C27-A7AA-1F9E8609165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第十讲  内分泌系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内分泌系统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一、概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二、下丘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三、垂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四、甲状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四、甲状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26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宋体"/>
              </a:rPr>
              <a:t>甲状腺激素的生理作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一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对代谢的影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蛋白质、脂肪和糖代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三大物质的代谢既有促进作用又有分解作用。剂量大时主要是分解作用，小剂量时促进蛋白质和糖原的合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能量代谢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显著的作用是加速机体绝大多数细胞的能量代谢，使机体耗氧量和产热量增加，基础代谢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MR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升高。甲亢时产热量增加，基础代谢率升高，患者怕热，出汗。甲低则相反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590400"/>
            <a:ext cx="6096240" cy="4515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553080" y="380880"/>
            <a:ext cx="25909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甲亢－提高组织耗氧率，增加产热量。产热量增加，基础代谢率升高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g T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提高基础代谢率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28%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。患者怕热，出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1800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甲状腺激素分泌过多，产热效应。使蛋白质分解过多，骨骼肌蛋白分解，肌无力。骨蛋白质分解，血钙升高，骨质疏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四、甲状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(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二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)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对生长发育的作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促进组织分化、生长、发育成熟的作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刺激骨化中心发育、软骨骨化、促进长骨生长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胚胎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1-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，胎儿甲状腺合成甲状腺素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3-1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垂体促甲状腺素刺激甲状腺加强激素分泌，促进胎儿脑发育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ahoma"/>
              </a:rPr>
              <a:t>呆小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婴幼儿缺乏甲状腺素将患呆小病。甲状腺功能低下，智力迟钝，身材矮小。与侏儒症不同。预防呆小病应从妊娠期开始，积极治疗甲减和地方性甲状腺肿的孕妇；治疗呆小病必须在出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月前补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否则难以奏效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3875040" cy="6132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181480" y="533520"/>
            <a:ext cx="32004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呆小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甲状腺功能低下，智力迟钝，身材矮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胚胎期缺碘－脑神经细胞变小，轴突、树突与髓鞘、胶质细胞等减少，蛋白质、磷脂、酶、递质合成减少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四、甲状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199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（三）影响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CNS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发育</a:t>
            </a:r>
            <a:br>
              <a:rPr sz="2800"/>
            </a:b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*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甲亢时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兴奋，躁动，过敏，烦躁，睡眠不好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出汗。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*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甲低时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兴奋性降低，记忆力下降，淡漠无情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思睡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所学内容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讲：绪论、人体基本结构概述、运动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讲：神经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三讲：血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四讲：循环系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五讲：循环系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六讲：呼吸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七讲：消化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八讲：能量代谢与体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九讲：泌尿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十讲：内分泌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0000"/>
              </a:solidFill>
              <a:latin typeface="Tahoma"/>
              <a:ea typeface="黑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考试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采用开卷形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题型及其分值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共四种题型，满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、单选题（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题，每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，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判断题（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题，每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，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三、名词解释题（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题，每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，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问答题（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题，每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，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7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60360" y="26028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</a:rPr>
              <a:t>希望同学们取得好成绩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一、概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内分泌系统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内分泌腺或内分泌细胞组成，是体内信息传递系统。与神经系统密切联系，相互配合，共同调节机体各种功能活动，维持内外环境的相对稳定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内分泌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、甲状腺、肾上腺、胰岛、性腺、松果体、胸腺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内分泌细胞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粘膜、心、肾、肺、皮肤、胎盘等。中枢神经系统神经细胞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一、概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848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ahoma"/>
              </a:rPr>
              <a:t>激素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内分泌腺或内分泌细胞分泌的高效能的生物活性物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ahoma"/>
              </a:rPr>
              <a:t>激素分泌形式：</a:t>
            </a:r>
            <a:br>
              <a:rPr sz="2800"/>
            </a:b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1)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远距分泌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经血液运输至靶组织发挥作用。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2)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旁分泌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组织液扩散作用于邻近细胞。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3)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自分泌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局部扩散又返回作用于该内分泌细胞而发挥反馈作用。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4) </a:t>
            </a: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神经分泌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神经激素沿神经细胞轴突借轴浆流动运送至末梢而释放的方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371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激素分泌形式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biLevel thresh="50000"/>
            <a:lum contrast="-30000"/>
          </a:blip>
          <a:stretch/>
        </p:blipFill>
        <p:spPr>
          <a:xfrm>
            <a:off x="1066680" y="1981080"/>
            <a:ext cx="701064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04920" y="934920"/>
          <a:ext cx="8534160" cy="5840640"/>
        </p:xfrm>
        <a:graphic>
          <a:graphicData uri="http://schemas.openxmlformats.org/drawingml/2006/table">
            <a:tbl>
              <a:tblPr/>
              <a:tblGrid>
                <a:gridCol w="228600"/>
                <a:gridCol w="761760"/>
                <a:gridCol w="48006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机                   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异        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促进生长发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蛋白质合成、促进软骨骨化和软骨细胞分裂→促进骨骼和肌肉的生长发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对脑的生长发育无影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幼年↓→侏儒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幼年↑→巨人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成年↑→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宋体"/>
                        </a:rPr>
                        <a:t>肢端肥大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促蛋白质合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氨基酸进入细胞，并加速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合成，促进蛋白质的合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促进脂肪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G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能促进脂肪分解，增强脂肪酸氧化，减少组织的脂肪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GH↑→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酮体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促糖利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G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理量可刺激胰岛素分泌→加强糖利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抑糖利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G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过量则抑制糖的利用→血糖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G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过量因脂肪酸氧化↑→抑糖氧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GH↑→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垂体性糖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22520" y="258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cc"/>
                </a:solidFill>
                <a:uFillTx/>
                <a:latin typeface="宋体"/>
              </a:rPr>
              <a:t>生长素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8580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308320" y="228600"/>
          <a:ext cx="437652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228600"/>
                    <a:ext cx="43765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4565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277920"/>
            <a:ext cx="3936960" cy="6580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14400" y="190512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19810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3434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41148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304920"/>
            <a:ext cx="297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成年－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H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过多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肢端肥大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－手足粗大，鼻大唇厚，下颌突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长骨骨骺已钙化，软骨成分较多的手脚肢端短骨、面骨及其它软组织生长异常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郑辉</dc:creator>
  <dc:description/>
  <dc:language>en-US</dc:language>
  <cp:lastModifiedBy>Administrator</cp:lastModifiedBy>
  <dcterms:modified xsi:type="dcterms:W3CDTF">2011-06-18T04:55:13Z</dcterms:modified>
  <cp:revision>177</cp:revision>
  <dc:subject>内分泌系统</dc:subject>
  <dc:title>第十讲</dc:title>
</cp:coreProperties>
</file>