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362-2DC1-4789-9F12-13FC7A21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E7C-C532-427A-A583-2695BE21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7AB-82B0-497E-8B49-D7CB4616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5C8-9AF3-4904-9E96-76F91EA8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2202-4B4B-4080-B634-8638EC12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12F2-8001-4B73-B556-8642F0DF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C0BF-66AE-4CC6-8725-517E17E4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BBB8-416A-4053-84CB-BA96E8FD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3321-C72A-4DC9-93DC-217B4D37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64FA-BF79-49C8-9A5D-0C4A40DA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240E-2752-4DA9-90EA-883B188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11B-2A1B-4951-86B8-62603DA1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05C4-84C7-4B97-A7A8-20B0B95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AB9E-3F1E-4127-A6AF-2ACC207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C0EE-7F22-4A35-8F8C-DFC1E77B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9E8A-9B6C-4B9C-BD51-053AE989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5F7A-B8ED-410C-B286-19BF6058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EBC-14F6-4076-AC52-A5DAE4E4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0A8-FD8E-4F0D-AF37-C259BB09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B3F-40D2-41F7-B1CD-C94E0F46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066-BE24-4F50-AA39-F6795B8B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3B5-062E-4489-89C9-1D8D8A40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25D-15B1-41E8-8B4D-F95C0E49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EFD-B93C-497B-A88F-F4F7918B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520-4ED2-402A-AD11-879E5AE1B18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B834-F395-4AC5-A65C-977DE3E65BA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三讲  血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血液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二、血液的组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三、血量、血型和输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三、血量、血型和输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O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血型的发生与分布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染色体上的位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34.1-q34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等位基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4008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三、血量、血型和输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基因、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基因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显性基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O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基因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隐性基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8358120" y="645156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下页：检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三、血量、血型和输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O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血型的检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3911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三、血量、血型和输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输血的原则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同型血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相合（育龄妇女与反复输血者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侧与次侧都无凝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主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次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血清                  红细胞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红细胞              血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一、概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762200"/>
            <a:ext cx="819324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体液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人体内液体的总称，占体重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                                 组织液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  血浆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淋巴液、脑脊液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%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ahoma"/>
              </a:rPr>
              <a:t>内环境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细胞外液构成的细胞直接生活的液体环境，血浆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其中最活跃的部分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10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ahoma"/>
              </a:rPr>
              <a:t>稳态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内环境的理化性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化学成分、含氧量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值、温度、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渗透压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一定范围内保持相对稳定的状态。内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just">
              <a:lnSpc>
                <a:spcPct val="10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境稳态是细胞生存的必要条件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19520"/>
            <a:ext cx="164880" cy="990360"/>
          </a:xfrm>
          <a:custGeom>
            <a:avLst/>
            <a:gdLst>
              <a:gd name="textAreaLeft" fmla="*/ 105480 w 164880"/>
              <a:gd name="textAreaRight" fmla="*/ 165240 w 164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26080" y="3200400"/>
            <a:ext cx="165240" cy="990720"/>
          </a:xfrm>
          <a:custGeom>
            <a:avLst/>
            <a:gdLst>
              <a:gd name="textAreaLeft" fmla="*/ 105480 w 165240"/>
              <a:gd name="textAreaRight" fmla="*/ 165600 w 1652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二、血液的组成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组成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血浆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血细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二、血液的组成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（一）血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晶体物质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易透过毛细血管与组织液交换 ，含量与组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织液基本相同 。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血浆蛋白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血浆中各种蛋白质的总称，分为三类：白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蛋白、球蛋白和纤维蛋白原。 不能透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毛细血管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血浆与组织液的区别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主要是蛋白质含量不同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二、血液的组成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4800" y="2286000"/>
            <a:ext cx="81928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（二）红细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形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成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无核，双凹圆盘状，周边稍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μ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，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μ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，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8μ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面积增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双凹圆盘形    气体扩散距离缩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塑性变形能力增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4572000"/>
            <a:ext cx="165240" cy="990720"/>
          </a:xfrm>
          <a:custGeom>
            <a:avLst/>
            <a:gdLst>
              <a:gd name="textAreaLeft" fmla="*/ 105480 w 165240"/>
              <a:gd name="textAreaRight" fmla="*/ 165600 w 1652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二、血液的组成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（一）血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（二）红细胞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（三）白细胞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（四）血小板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10602"/>
          <a:stretch/>
        </p:blipFill>
        <p:spPr>
          <a:xfrm>
            <a:off x="3809880" y="1981080"/>
            <a:ext cx="4191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371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三、血量、血型和输血</a:t>
            </a:r>
            <a:br>
              <a:rPr sz="48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血量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内血浆和血细胞的总和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7- 8%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体重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人，血量约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血型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B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膜上特异抗原的类型。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O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血型、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h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血型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凝集原：起着抗原作用的特异性糖蛋白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凝集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特异性抗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细胞凝集：机制是抗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体反应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294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三、血量、血型和输血</a:t>
            </a:r>
            <a:br>
              <a:rPr sz="48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宋体"/>
              </a:rPr>
              <a:t>ABO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宋体"/>
              </a:rPr>
              <a:t>血型系统的分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型                      凝集原                   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                          A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                            B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                        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                         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郑辉</dc:creator>
  <dc:description/>
  <dc:language>en-US</dc:language>
  <cp:lastModifiedBy>微软用户</cp:lastModifiedBy>
  <dcterms:modified xsi:type="dcterms:W3CDTF">2014-05-16T00:10:10Z</dcterms:modified>
  <cp:revision>157</cp:revision>
  <dc:subject>血液</dc:subject>
  <dc:title>第三讲</dc:title>
</cp:coreProperties>
</file>