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DD6-4316-4D4F-9E16-84A74410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EF9-4D5A-4804-A6DB-29C2485B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9B9-2345-46F1-B49E-A4CEA60B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BCF-737F-423E-9F3F-63C45C8C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1C60-A86D-4685-95EA-AD503C9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B4E-01B0-48E5-B12E-1FD2FE75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A34-64AB-4099-A698-1128657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CBD6-9FCB-4135-ACCB-8C103C8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0A0-0D89-449A-93F8-2D981648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1C9-882B-4382-88A5-AFF8EA1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B0FA-6047-427E-B270-06071DE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24D-74AD-4CDA-82DB-800FF62C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E435-F589-4829-9E61-8C33AB3F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AB1-ACE4-4487-B1A3-DE1EFA4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ACAD-0E69-4FCC-ACA7-1775D330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914-C3F8-4981-992A-33F1EC1E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4012-44FD-4ADE-9901-4D2EAD3F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E1B-362F-4EB2-95A7-6971AE4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869-602C-4A86-97E4-4E9C1F51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5FA-2CA6-4E37-8271-8391200A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A5F-9EDA-4653-8F19-B098950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C2B-C6EE-475B-ACF3-DEB93D63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236-E688-4E71-A183-AA1EB30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F2B-DE2C-47E7-A783-1987FC0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297-5560-4CD3-A24B-D5AA549F89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9D2-D12D-4208-ABF1-3B158319F88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四讲  循环系统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  <a:ea typeface="黑体"/>
              </a:rPr>
              <a:t>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循环系统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)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二、心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自动节律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400" y="2017800"/>
            <a:ext cx="819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、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正常起搏点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和潜在起搏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心脏传导系统各部位的自律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窦房结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90-1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房室结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0-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浦肯野纤维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5-4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正常起搏点和窦性心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潜在起搏点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房室延搁及其意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2160" y="201780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房室延搁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房室交界是兴奋由心房进入心室的唯一通道。房室交界区细胞传导速度缓慢，尤以结区最慢，因而占时较长（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0.1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秒），这种现象称为房室延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房室延搁的生理意义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使心房与心室不在同一时间进行收缩，有利于心室充盈及射血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心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三）心动周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心动周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脏一次收缩和舒张，构成一个机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周期，称为心动周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成年人心率平均每分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每个心动周期持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心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心动周期中，在胸壁所听到的声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二、心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99"/>
                </a:solidFill>
                <a:uFillTx/>
                <a:latin typeface="Times New Roman"/>
              </a:rPr>
              <a:t>（二）心肌的生理特性：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兴奋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自律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传导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收缩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兴奋性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04920" y="1905120"/>
            <a:ext cx="9220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、心室肌的静息电位和动作电位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静息电位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9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成机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骨骼肌和神经细胞类似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动作电位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宋体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骨骼肌和神经细胞明显不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除极和复极两个过程组成，分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时相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289480" y="990000"/>
            <a:ext cx="386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Action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66680" y="1981080"/>
          <a:ext cx="6934320" cy="51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934320" cy="5116680"/>
                  </a:xfrm>
                  <a:prstGeom prst="rect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016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43000"/>
            <a:ext cx="36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动作电位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个时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289480" y="990000"/>
            <a:ext cx="3867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Action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动作电位各时相产生机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（去极化期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流所引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（快速复极化初期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流所引起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（平台期）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流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流的综合结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（快速复极末期）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（静息期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离子泵活动使细胞内外各离子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浓度得以恢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兴奋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心肌兴奋性的特点－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不发生强直收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心肌细胞的有效不应期很长，相当于整个收缩期加舒张早期，因而心肌不会发生强直收缩，保证收缩和舒张交替进行，实现其泵血功能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兴奋性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、期前收缩与代偿间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期前收缩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窦房结的节律兴奋而收缩。如在心室的有效不应期之后，心室受到人工的或窦房结之外的病理性异常刺激，则心室可以接受这一额外刺激产生一次期前兴奋，引起的收缩称为期前收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代偿间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次期前收缩之后，往往有一段较长的心脏舒张期，称为代偿间隙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7T11:45:10Z</dcterms:modified>
  <cp:revision>201</cp:revision>
  <dc:subject>循环系统(I)</dc:subject>
  <dc:title>第四讲</dc:title>
</cp:coreProperties>
</file>