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3A45-BA1A-4479-824E-5DCF9E36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348-C9F6-4507-B454-487198E9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AA45-C928-4C2E-B6E2-0CAE8505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540E-FF23-4BB8-88E6-68F8814B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9CDB-BE48-449C-A60F-F94A2C49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EC7B-E2E8-4ACD-B718-1F2241FF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25E0-99B1-44E8-A37C-46590CC1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15A2-44C3-4893-A0FF-B9C82995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CE15-F1CE-415B-BEAF-9481E114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6891-6CA9-4E57-A3C9-3F7576FF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CB36-545A-4925-8808-2C3B8C07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20DE-FDCD-4222-84FC-21747913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EEFB-FFDC-4204-A4DD-AE00FF82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51C1-93BB-41C9-A686-252ECFA7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8141-19A6-4A6E-A68C-E7408636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873C-E9D3-4B24-BA0B-65FEDA4C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8C8F-8F21-4EB3-AAFE-F0382467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FCA-F0C4-4F4F-9542-6B34EEBD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AFD8-EB9D-449D-84B9-C78A6860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6D52-0DB4-4715-952D-83D21AFF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51A-FC8A-476D-AD6A-CB95A23A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2CB-59BF-4B11-B90F-7872C132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6DE-EE4D-4F28-8D28-1EA25101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280-2BE8-43DB-A27C-88F06780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33EA-9C49-4837-BB24-864B86CAC60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5211-AFF1-486C-9D1F-22EE711632C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第五讲  循环系统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  <a:ea typeface="黑体"/>
              </a:rPr>
              <a:t>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循环系统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I)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三、动脉血压形成及其影响因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四、心血管活动的调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四、心血管活动的调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3068640"/>
            <a:ext cx="8381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（一）心脏和血管的神经支配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心脏的神经支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交感神经、心迷走神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22050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神经调节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1218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四、心血管活动的调节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心交感神经及其作用：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前神经元，节前纤维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Ch→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受体（节后神经元）→节后纤维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E→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受体（心脏）→心率加快，房室传导加速，心肌收缩力增强→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正性变时、变传导、变力作用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四、心血管活动的调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心迷走神经及其作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前神经元→节前纤维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h→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后神经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后纤维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h →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减慢，房室传导速度减慢，心肌收缩力减弱→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负性变时、变传导、变力作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四、心血管活动的调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．血管的神经支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宋体"/>
              </a:rPr>
              <a:t>缩血管神经纤维：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宋体"/>
              </a:rPr>
              <a:t>＃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皆为交感神经纤维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E→α&gt;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器官，交感缩血管纤维的分布不同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、内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冠脉、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效应：交感缩血管神经纤维兴奋降低器官血流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舒血管神经纤维：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感舒血管纤维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副交感舒血管纤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四、心血管活动的调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6200" y="1828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（二）心血管中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控制心血管活动的有关神经元集中的部位，分布在从脊髓到大脑的各级水平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＃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延髓心血管中枢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血管活动的基本中枢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缩血管区、舒血管区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传入神经接替站、心抑制区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延髓以上的心血管中枢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血管活动和机体其它功能间的复杂整合（下丘脑、大脑皮层、边缘系统等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0" y="3048120"/>
            <a:ext cx="350532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四、心血管活动的调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（三）心血管活动的反射性调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宋体"/>
              </a:rPr>
              <a:t>颈动脉窦和主动脉弓压力感受性反射（减压反射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压力感受性反射的装置位于颈动脉窦和主动脉弓血管外膜下的</a:t>
            </a: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感觉神经末梢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感受血管壁的机械牵张程度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当动脉血压升高时，引起压力感受性反射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心率减慢，外周血管阻力下降，血压下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320" y="8748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三、动脉血压形成及其影响因素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宋体"/>
              </a:rPr>
              <a:t>血压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指血管内的血液对单位面积血管壁的侧压力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单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a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牛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kP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mH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动脉血压及正常值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缩压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ystolic pressur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收缩中期主动脉血压的最高值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3.3-16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kP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舒张压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iastolic pressur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舒张末期主动脉血压的最低值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.0-10.6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kP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脉压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ulse pressur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BP-DBP, 4.0-5.3 kP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三、动脉血压形成及其影响因素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．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动脉血压的形成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基本因素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系统内血液充盈及心脏射血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外周阻力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血液充盈的前提下，动脉血压的形成是心脏射血和外周阻力相互作用的结果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主动脉和大动脉的弹性贮器作用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缓解血压，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致过高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致过低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左心室间断射血变成动脉内连续血流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三、动脉血压形成及其影响因素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宋体"/>
              </a:rPr>
              <a:t>2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宋体"/>
              </a:rPr>
              <a:t>．影响动脉血压形成的因素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搏出量：主要影响收缩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心率：对舒张压影响较大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外周阻力：主要影响舒张压，舒张压高低反映外周阻力大小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主动脉和大动脉的弹性贮器作用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循环血量和血管系统容量的比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）心脏每搏输出量：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心脏每搏输出量↑时，收缩压↑↑，舒张压↑，脉压↑；反之则反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4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因此，收缩压的高低主要反映心脏每搏输出量的多少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）心率：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心率↑时，收缩压↑，舒张压↑↑，脉压↓；反之则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）外周阻力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外周阻力↑时，收缩压↑，舒张压↑↑，脉压↓；反之则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因此，舒张压的高低主要反映外周阻力的大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(4)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主动脉和大动脉的弹性贮器作用：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若主动脉和大动脉管壁的弹性↓，则收缩压↑，舒张压↓，脉压↑；若同时伴小动脉硬化，以致外周阻力↑，舒张压亦↑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）循环血量和血管系统容量的比例： 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若血管系统容量不变，循环血量↓，则血压↓；若血管系统容量↑，血量不变，血压亦↓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四、心血管活动的调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意义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652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血压、血流量的相对稳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652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满足机体各器官在不同状态下的血液需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652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神经调节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3652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体液调节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郑辉</dc:creator>
  <dc:description/>
  <dc:language>en-US</dc:language>
  <cp:lastModifiedBy>Administrator</cp:lastModifiedBy>
  <dcterms:modified xsi:type="dcterms:W3CDTF">2011-06-17T11:48:57Z</dcterms:modified>
  <cp:revision>168</cp:revision>
  <dc:subject>循环系统(II)</dc:subject>
  <dc:title>第五讲</dc:title>
</cp:coreProperties>
</file>