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1B9-75B5-4F02-B736-572EA8FB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F2B-9005-4403-BEE4-CEEFD7E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505-4AC5-4C40-84CD-391C93A8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E6B-CD16-41C0-A118-253EC9E0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0A3D-E8A1-4AD6-920E-F24BE7B3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866C-FA4B-4A4E-AB2C-22A998DD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5104-3FBF-4F5C-886A-4B3685CB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4118-DDBA-4C73-8257-CFD586DD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91C0-BEF7-42A5-95E5-BE8960FD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BB32-7469-4C03-A690-5CDB3F87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D7AE-1BBD-4253-93F7-598A8D5F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343-ABF9-4658-9DE8-265237F2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5B60-DB4F-4C8E-A960-CDCFEB5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5A6C-3BFA-4589-BA52-F7967E64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99E8-6BBC-4CC5-8EFD-4D6847EE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002B-680A-4C57-9161-3C0A1B8C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1106-7E8F-4C04-8DFF-19F920E4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DE1-BB8A-42D3-8123-5CE45A5E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6AB-D99C-489C-B9CF-A041AF8F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91C-BA23-487C-A33A-3CEF2613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A8E-27BE-480B-AD77-A884423F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B9A-06B9-4EAD-A4F8-FA6FB72D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263-3ABC-466C-B0F7-0CE80FD6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747-09DF-4A8F-8994-86A41FD7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1BAF-34D7-40F9-96B4-4C635048DA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2AC8-6A4A-4BD5-B190-10F7CAB9763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371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第二讲  神经系统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神经系统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一、神经系统的基本功能及组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二、生物电现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三、神经冲动的传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四、中枢神经系统活动的一般规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0663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二、生物电现象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（一）兴奋和兴奋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反应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环境条件变化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机体发生相应的改变。（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兴奋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静止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活动或弱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强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抑制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反之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刺激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环境条件的变化。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刺激形式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兴奋性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刺激产生反应的能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可兴奋细胞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对刺激产生反应的表现特别明显（神经、肌肉和腺细胞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0663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二、生物电现象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90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（二）引起兴奋的条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、刺激强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、刺激作用时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、强度变化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＃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ahoma"/>
              </a:rPr>
              <a:t>阈强度（阈值）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刺激作用时间和强度－时间变化率不变时，引起组织细胞兴奋所需的最小刺激强度。达到这种强度的刺激为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阈刺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阈值大，组织细胞的兴奋性低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反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21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三、神经冲动的传导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（一）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Tahoma"/>
              </a:rPr>
              <a:t>神经纤维兴奋传导的特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产生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动作电位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神经冲动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生理完整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双向传导性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非递减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绝缘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相对不疲劳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四、中枢神经系统活动的一般规律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cc"/>
                </a:solidFill>
                <a:uFillTx/>
                <a:latin typeface="Tahoma"/>
              </a:rPr>
              <a:t>（一）突触的结构与传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99"/>
                </a:solidFill>
                <a:uFillTx/>
                <a:latin typeface="Tahoma"/>
              </a:rPr>
              <a:t>突触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个神经元与另一个神经元相接触的特殊分化部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突触的结构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突触前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突触后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突触间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四、中枢神经系统活动的一般规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99"/>
                </a:solidFill>
                <a:uFillTx/>
                <a:latin typeface="Tahoma"/>
              </a:rPr>
              <a:t>传递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信息在两个神经元之间的传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99"/>
                </a:solidFill>
                <a:uFillTx/>
                <a:latin typeface="Tahoma"/>
              </a:rPr>
              <a:t>传导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信息在一个神经元范围内的传播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四、中枢神经系统活动的一般规律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180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33cc"/>
                </a:solidFill>
                <a:uFillTx/>
                <a:latin typeface="Tahoma"/>
              </a:rPr>
              <a:t>（二）</a:t>
            </a:r>
            <a:r>
              <a:rPr b="1" lang="zh-CN" sz="4400" spc="-1" strike="noStrike" u="sng">
                <a:solidFill>
                  <a:srgbClr val="3333cc"/>
                </a:solidFill>
                <a:uFillTx/>
                <a:latin typeface="Tahoma"/>
              </a:rPr>
              <a:t>神经中枢活动的基本规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反射活动和反射中枢概念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反射中枢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枢神经系统内调节某一特定生理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功能的神经细胞群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反射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神经系统活动的基本方式，结构基础是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反射弧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四、中枢神经系统活动的一般规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Tahoma"/>
              </a:rPr>
              <a:t>神经中枢内兴奋传递的特征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单向传递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传导为双向，而传递为突触前神经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突触后神经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中枢延搁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总和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时间总和、空间总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后发放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传入刺激停止，传出神经仍可在一定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间内持续发放冲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兴奋节律的改变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突触后电位可以总和，使传出神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元与传入神经元冲动频率不同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对内环境变化的敏感性和易疲劳性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郑辉</dc:creator>
  <dc:description/>
  <dc:language>en-US</dc:language>
  <cp:lastModifiedBy>Administrator</cp:lastModifiedBy>
  <dcterms:modified xsi:type="dcterms:W3CDTF">2011-06-17T11:38:29Z</dcterms:modified>
  <cp:revision>147</cp:revision>
  <dc:subject>神经系统</dc:subject>
  <dc:title>第二讲</dc:title>
</cp:coreProperties>
</file>