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6BAF-12E3-406E-8CA0-87E33C419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AB45-0022-4D5A-A1D2-BB2ED76A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29BB-A700-49B5-B73B-27A7041F8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A855-0653-478C-B2E9-D34AFD373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8B99-B49C-461E-8F70-C9ADF8D5E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949A3-9CBE-43EE-85F7-9C5A0D50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B25D2-BFC0-4FB0-A872-A06626D2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CAD7-80D5-431F-95B2-08185AB1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022A-BC06-4510-8FF1-7A61609C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22B0-B58A-407C-9D14-F4FA5F65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96BFD-4FD5-452D-89DE-3A055334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0D7C-2B8E-4EA9-A405-07058776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7037-F05D-44DF-AFAF-9D82485F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38544-DD9F-489B-ACBD-1AC8C934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7EACC-116B-464A-8B55-61463194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79F40-792A-4EDB-9D3F-A99DD3854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5E59-9C3C-4618-B283-C05E36E91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721C-3831-4652-87FF-0D2C0964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8F92-CD42-4477-AF2B-C50B8C3B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259C-6902-4903-BC74-AA9D1F3F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4B26-B773-45BF-82D2-39861561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F8AE-B200-49C7-B94E-682F63F2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4C21-942C-4ABB-B363-88D37075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B215-FC87-46A9-A9DF-734050CA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09F0-CEF3-4A48-B40E-AF7B4DEE945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1F90-9486-4209-97B9-D5C9B4445810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第七讲  消化系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消化系统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一、概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二、口腔内消化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三、胃内消化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四、小肠内消化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五、吸收过程概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三、胃内消化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D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内因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壁细胞分泌，糖蛋白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促进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吸收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三、胃内消化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（二）胃的运动（机械性消化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  </a:t>
            </a: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、胃的容受性舒张：</a:t>
            </a:r>
            <a:br>
              <a:rPr sz="2400"/>
            </a:br>
            <a:r>
              <a:rPr b="1" lang="zh-CN" sz="1800" spc="-1" strike="noStrike">
                <a:solidFill>
                  <a:srgbClr val="3333cc"/>
                </a:solidFill>
                <a:latin typeface="宋体"/>
              </a:rPr>
              <a:t>现象：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咀嚼、吞咽时，胃底、胃体平滑肌舒张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----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胃的容受性舒张。</a:t>
            </a:r>
            <a:br>
              <a:rPr sz="1800"/>
            </a:br>
            <a:r>
              <a:rPr b="1" lang="zh-CN" sz="1800" spc="-1" strike="noStrike">
                <a:solidFill>
                  <a:srgbClr val="3333cc"/>
                </a:solidFill>
                <a:latin typeface="宋体"/>
              </a:rPr>
              <a:t>作用：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增加胃的容量，空腹时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ml---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进食后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1500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ml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1800"/>
            </a:br>
            <a:r>
              <a:rPr b="1" lang="zh-CN" sz="1800" spc="-1" strike="noStrike">
                <a:solidFill>
                  <a:srgbClr val="3333cc"/>
                </a:solidFill>
                <a:latin typeface="宋体"/>
              </a:rPr>
              <a:t>机制：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迷走神经的传入、传出通路实现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  </a:t>
            </a: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、蠕动：</a:t>
            </a:r>
            <a:br>
              <a:rPr sz="2400"/>
            </a:br>
            <a:r>
              <a:rPr b="1" lang="zh-CN" sz="1800" spc="-1" strike="noStrike">
                <a:solidFill>
                  <a:srgbClr val="3333cc"/>
                </a:solidFill>
                <a:latin typeface="宋体"/>
              </a:rPr>
              <a:t>现象：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食物进入胃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分钟左右，胃蠕动从胃的中部开始，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分，向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幽门方向进行。 </a:t>
            </a:r>
            <a:br>
              <a:rPr sz="1800"/>
            </a:br>
            <a:r>
              <a:rPr b="1" lang="zh-CN" sz="1800" spc="-1" strike="noStrike">
                <a:solidFill>
                  <a:srgbClr val="3333cc"/>
                </a:solidFill>
                <a:latin typeface="宋体"/>
              </a:rPr>
              <a:t>作用：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食物与胃液充分混合，利于胃液发挥作用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搅拌粉碎食物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推进食物进入肠道。（图）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宋体"/>
              </a:rPr>
              <a:t>   </a:t>
            </a:r>
            <a:r>
              <a:rPr b="1" lang="zh-CN" sz="2000" spc="-1" strike="noStrike" u="sng">
                <a:solidFill>
                  <a:srgbClr val="3333cc"/>
                </a:solidFill>
                <a:uFillTx/>
                <a:latin typeface="宋体"/>
              </a:rPr>
              <a:t>3</a:t>
            </a:r>
            <a:r>
              <a:rPr b="1" lang="zh-CN" sz="2000" spc="-1" strike="noStrike" u="sng">
                <a:solidFill>
                  <a:srgbClr val="3333cc"/>
                </a:solidFill>
                <a:uFillTx/>
                <a:latin typeface="宋体"/>
              </a:rPr>
              <a:t>、胃的排空：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食物由胃排入十二指肠的过程。</a:t>
            </a:r>
            <a:br>
              <a:rPr sz="1800"/>
            </a:br>
            <a:r>
              <a:rPr b="1" lang="zh-CN" sz="1800" spc="-1" strike="noStrike" u="sng">
                <a:solidFill>
                  <a:srgbClr val="3333cc"/>
                </a:solidFill>
                <a:uFillTx/>
                <a:latin typeface="宋体"/>
              </a:rPr>
              <a:t>排空速度：</a:t>
            </a:r>
            <a:br>
              <a:rPr sz="1800"/>
            </a:br>
            <a:r>
              <a:rPr b="1" lang="zh-CN" sz="1800" spc="-1" strike="noStrike">
                <a:solidFill>
                  <a:srgbClr val="ffcf01"/>
                </a:solidFill>
                <a:latin typeface="宋体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稀的、流体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稠的、固体食物    食物性质：糖类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蛋白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脂肪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    颗粒小的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颗粒大的            等渗溶液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非等渗溶液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2" name="test9" descr=""/>
          <p:cNvPicPr/>
          <p:nvPr/>
        </p:nvPicPr>
        <p:blipFill>
          <a:blip r:embed="rId1"/>
          <a:srcRect l="0" t="0" r="0" b="43820"/>
          <a:stretch/>
        </p:blipFill>
        <p:spPr>
          <a:xfrm>
            <a:off x="0" y="509760"/>
            <a:ext cx="9144000" cy="5128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551040" y="55468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99"/>
                </a:solidFill>
                <a:latin typeface="Times New Roman"/>
                <a:ea typeface="隶书"/>
              </a:rPr>
              <a:t>蠕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四、小肠内消化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2999"/>
              </a:spcBef>
              <a:spcAft>
                <a:spcPts val="15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33cc"/>
                </a:solidFill>
                <a:uFillTx/>
                <a:latin typeface="Tahoma"/>
              </a:rPr>
              <a:t>消化吸收最重要的阶段</a:t>
            </a:r>
            <a:br>
              <a:rPr sz="2800"/>
            </a:b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化学性消化：</a:t>
            </a:r>
            <a:br>
              <a:rPr sz="2800"/>
            </a:b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胰液、胆汁、小肠液的参与</a:t>
            </a:r>
            <a:br>
              <a:rPr sz="2400"/>
            </a:b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机械性消化：</a:t>
            </a:r>
            <a:br>
              <a:rPr sz="2800"/>
            </a:b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小肠的运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四、小肠内消化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33cc"/>
                </a:solidFill>
                <a:uFillTx/>
                <a:latin typeface="宋体"/>
              </a:rPr>
              <a:t>胰液的来源、成分及作用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无色无嗅的碱性液体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--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L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）无机物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碳酸氢盐含量最高，其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。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碳酸氢盐的作用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中和进入肠腔的胃酸，保护肠粘膜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创造有利于消化酶作用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环境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四、小肠内消化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）有机物：</a:t>
            </a:r>
            <a:br>
              <a:rPr sz="2000"/>
            </a:b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      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主要是蛋白质（多种消化酶）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宋体"/>
              </a:rPr>
              <a:t>A</a:t>
            </a:r>
            <a:r>
              <a:rPr b="1" lang="en-US" sz="2000" spc="-1" strike="noStrike">
                <a:solidFill>
                  <a:srgbClr val="3333cc"/>
                </a:solidFill>
                <a:latin typeface="宋体"/>
              </a:rPr>
              <a:t>、</a:t>
            </a: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胰淀粉酶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水解淀粉为麦芽糖、麦芽寡糖。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宋体"/>
              </a:rPr>
              <a:t>B</a:t>
            </a:r>
            <a:r>
              <a:rPr b="1" lang="en-US" sz="2000" spc="-1" strike="noStrike">
                <a:solidFill>
                  <a:srgbClr val="3333cc"/>
                </a:solidFill>
                <a:latin typeface="宋体"/>
              </a:rPr>
              <a:t>、</a:t>
            </a: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胰脂肪酶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分解甘油三酯为脂肪酸、甘油一酯、甘油。</a:t>
            </a:r>
            <a:br>
              <a:rPr sz="2000"/>
            </a:br>
            <a:br>
              <a:rPr sz="1400"/>
            </a:br>
            <a:r>
              <a:rPr b="1" lang="en-US" sz="2000" spc="-1" strike="noStrike">
                <a:solidFill>
                  <a:srgbClr val="3333cc"/>
                </a:solidFill>
                <a:latin typeface="宋体"/>
              </a:rPr>
              <a:t>C</a:t>
            </a:r>
            <a:r>
              <a:rPr b="1" lang="en-US" sz="2000" spc="-1" strike="noStrike">
                <a:solidFill>
                  <a:srgbClr val="3333cc"/>
                </a:solidFill>
                <a:latin typeface="宋体"/>
              </a:rPr>
              <a:t>、</a:t>
            </a: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胰蛋白酶原、糜蛋白酶原：</a:t>
            </a: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   </a:t>
            </a: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   激活：</a:t>
            </a:r>
            <a:r>
              <a:rPr b="1" lang="zh-CN" sz="1600" spc="-1" strike="noStrike">
                <a:solidFill>
                  <a:srgbClr val="ffcc00"/>
                </a:solidFill>
                <a:latin typeface="宋体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肠液中的肠致活酶、酸、胰蛋白酶 </a:t>
            </a:r>
            <a:br>
              <a:rPr sz="18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胰蛋白酶原                             胰蛋白酶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糜蛋白酶原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胰蛋白酶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   糜蛋白酶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作用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分解蛋白质为胨、多肽、氨基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51055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57150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四、小肠内消化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小肠的运动（机械性消化）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A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紧张性收缩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是小肠其他运动形式的基础。</a:t>
            </a:r>
            <a:br>
              <a:rPr sz="2400"/>
            </a:b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B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分节运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环行肌的节律性收缩与舒张为基础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作用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食糜与消化液充分混合，便于化学性消化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食糜与肠壁紧密接触，利于吸收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挤压肠壁，利于血液和淋巴的回流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C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蠕动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作用：向前推进食物（在小肠可有蠕动冲）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test9" descr=""/>
          <p:cNvPicPr/>
          <p:nvPr/>
        </p:nvPicPr>
        <p:blipFill>
          <a:blip r:embed="rId1"/>
          <a:stretch/>
        </p:blipFill>
        <p:spPr>
          <a:xfrm>
            <a:off x="76320" y="76320"/>
            <a:ext cx="6284880" cy="67737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088040" y="14320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99"/>
                </a:solidFill>
                <a:latin typeface="Times New Roman"/>
                <a:ea typeface="隶书"/>
              </a:rPr>
              <a:t>蠕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243560" y="3671640"/>
            <a:ext cx="91152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99"/>
                </a:solidFill>
                <a:latin typeface="Times New Roman"/>
                <a:ea typeface="隶书"/>
              </a:rPr>
              <a:t>分节运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1218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五、吸收过程概述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、消化道各个部位的吸收特点：</a:t>
            </a:r>
            <a:br>
              <a:rPr sz="2800"/>
            </a:b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口腔、食管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吸收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胃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酒精、少量水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十二指肠、空肠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糖、蛋白质、脂肪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回肠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胆盐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12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结肠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水、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33cc"/>
                </a:solidFill>
                <a:uFillTx/>
                <a:latin typeface="宋体"/>
              </a:rPr>
              <a:t>2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宋体"/>
              </a:rPr>
              <a:t>、小肠吸收的形态学基础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A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巨大的吸收面积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-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米，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）。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B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停留时间长、有已充分消化的前提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C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丰富的毛细血管、毛细淋巴管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一、概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609480" y="2252160"/>
            <a:ext cx="9982080" cy="36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食物构成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蛋白、脂肪、淀粉、糖、维生素、矿物质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33cc"/>
                </a:solidFill>
                <a:uFillTx/>
                <a:latin typeface="宋体"/>
              </a:rPr>
              <a:t>消化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物在消化道被分解为小分子的过程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33cc"/>
                </a:solidFill>
                <a:uFillTx/>
                <a:latin typeface="宋体"/>
              </a:rPr>
              <a:t>吸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化产物通过消化道粘膜进入血液和淋巴循环的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一、概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609480" y="2324160"/>
            <a:ext cx="998208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消化的两种方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同时存在、相互配合、相互影响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宋体"/>
              </a:rPr>
              <a:t>机械性消化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消化道肌肉舒缩运动，将食物磨碎、混合 、推送。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宋体"/>
              </a:rPr>
              <a:t>化学性消化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消化液中的酶，分解蛋白、脂肪、淀粉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一、概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消化管的一般结构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ahoma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粘膜、粘膜下层、肌层、外膜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33cc"/>
                </a:solidFill>
                <a:uFillTx/>
                <a:latin typeface="Tahoma"/>
              </a:rPr>
              <a:t>消化道平滑肌的生理特性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、 </a:t>
            </a: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兴奋性</a:t>
            </a: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低</a:t>
            </a: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)</a:t>
            </a: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缩的潜伏、收缩、舒张期长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b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、</a:t>
            </a: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自动节律性（差）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离体收缩慢、节律不规则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c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、</a:t>
            </a: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紧张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d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、</a:t>
            </a: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可伸展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、</a:t>
            </a: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对牵拉、温度、化学刺激敏感；对电刺激不敏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三、胃内消化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33cc"/>
                </a:solidFill>
                <a:uFillTx/>
                <a:latin typeface="宋体"/>
              </a:rPr>
              <a:t>（一）、化学性消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胃液的来源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贲门腺、泌酸腺、幽门腺以及胃粘膜上皮细胞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分泌产物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数量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.5-2.5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L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性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色、酸性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H0.9-1.5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组成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机物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HCL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Nacl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Kcl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碳酸氢盐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有机物：消化酶、粘蛋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三、胃内消化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A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盐酸（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HCL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来源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泌酸腺中的壁细胞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作用： </a:t>
            </a:r>
            <a:br>
              <a:rPr sz="3200"/>
            </a:br>
            <a:r>
              <a:rPr b="1" lang="zh-CN" sz="3200" spc="-1" strike="noStrike">
                <a:solidFill>
                  <a:srgbClr val="ffcf01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杀菌；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激活胃蛋白酶元；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作用小肠上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细胞，产生胰泌素；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铁钙的吸收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三、胃内消化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B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胃蛋白酶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来源：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泌酸腺中的主细胞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激活形成过程：</a:t>
            </a:r>
            <a:br>
              <a:rPr sz="3200"/>
            </a:br>
            <a:r>
              <a:rPr b="1" lang="zh-CN" sz="3200" spc="-1" strike="noStrike">
                <a:solidFill>
                  <a:srgbClr val="ffcf01"/>
                </a:solidFill>
                <a:latin typeface="Tahoma"/>
              </a:rPr>
              <a:t>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CL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胃蛋白酶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胃蛋白酶元――――――胃蛋白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作用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水解蛋白质、多肽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胨、少量多肽、氨基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三、胃内消化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C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胃粘液、碳酸氢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来源：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     胃粘液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胃粘膜上皮、泌酸腺粘液颈细胞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贲门腺和幽门腺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f01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碳酸氢盐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胃粘膜非泌酸细胞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成分、特点：</a:t>
            </a:r>
            <a:br>
              <a:rPr sz="3200"/>
            </a:br>
            <a:r>
              <a:rPr b="1" lang="zh-CN" sz="2800" spc="-1" strike="noStrike">
                <a:solidFill>
                  <a:srgbClr val="ffcf01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胃粘液主要成分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糖蛋白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  特点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粘滞性（水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30-26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倍）、可以形成凝胶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test10" descr=""/>
          <p:cNvPicPr/>
          <p:nvPr/>
        </p:nvPicPr>
        <p:blipFill>
          <a:blip r:embed="rId1"/>
          <a:stretch/>
        </p:blipFill>
        <p:spPr>
          <a:xfrm>
            <a:off x="76320" y="228600"/>
            <a:ext cx="6705360" cy="6394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242840" y="1199880"/>
            <a:ext cx="1094760" cy="42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99"/>
                </a:solidFill>
                <a:latin typeface="Times New Roman"/>
                <a:ea typeface="隶书"/>
              </a:rPr>
              <a:t>粘液分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郑辉</dc:creator>
  <dc:description/>
  <dc:language>en-US</dc:language>
  <cp:lastModifiedBy>Administrator</cp:lastModifiedBy>
  <dcterms:modified xsi:type="dcterms:W3CDTF">2011-06-18T01:14:28Z</dcterms:modified>
  <cp:revision>133</cp:revision>
  <dc:subject>消化系统</dc:subject>
  <dc:title>第七讲</dc:title>
</cp:coreProperties>
</file>